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44F1-32F5-43D4-964A-C05AB2928F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an modules: users are not even aware they’re using l4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stamp, new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e of passage, templ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pan deps: easy adoption to becom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: cpan smoke tes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CF1E-0A73-4B62-B7BE-336D4F83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1D3E-F4F2-40C6-95FC-A1297641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96E-FAEC-43BA-8567-CF958815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3184-4320-4F78-B01C-5AB7E7B1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A3B0-BB8F-4042-8A6C-411B60D4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5D74-DF51-40B5-829B-C5E16796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DA83-1149-4CE6-988E-F2BD1654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5A8-F123-4D79-8996-509E2B2B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0004-654E-4ED7-9CAE-74D72AB6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3E3-E19A-484E-813F-321EDDA9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0E9D-38E3-4F90-B4CD-7A024CE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3909-B06F-4620-809A-F17D9A34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8195-D12B-440F-9B0B-518090B9B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logging.apache.org/log4j" TargetMode="Externa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4per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3000" y="4266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ke Schilli, Yah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ON, 07/24/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505320" y="220968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r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l qw(:eas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DEBUG “Starting up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n’t like macros?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get_logger(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r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l qw(get_logge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my $logger = get_logger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$logger-&gt;debug(“Starting up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ke it clean? Use Moo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ackage Ferrari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se Moos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with “MooseX::Log::Log4perl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ub driv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my($self) = @_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$self-&gt;log-&gt;debug(“Wroom!!”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</a:t>
            </a:r>
            <a:r>
              <a:rPr b="1" lang="en-US" sz="3200" spc="-1" strike="noStrike">
                <a:solidFill>
                  <a:srgbClr val="009900"/>
                </a:solidFill>
                <a:latin typeface="Courier New"/>
              </a:rPr>
              <a:t>r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l qw(:eas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DEBUG “Starting up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::Log4perl-&gt;easy_init( 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</a:rPr>
              <a:t>$DEBU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2008/07/08 18:37:12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g::Log4perl-&gt;easy_init( 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</a:rPr>
              <a:t>$DEBU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DEBUG “Starting up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# … something hap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ERROR “Horrible error!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2008/07/08 18:37:12 Starting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2008/07/08 18:37:12 Horrible err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#!/usr/bin/perl –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stric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Log::Log4perl-&gt;easy_init(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$ERROR</a:t>
            </a:r>
            <a:r>
              <a:rPr b="1" lang="en-US" sz="2800" spc="-1" strike="noStrike">
                <a:solidFill>
                  <a:srgbClr val="00cc00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ERROR “Horrible error!”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ging –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 during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back in time and figure out what happe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activity on liv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sy Log4per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2008/07/08 18:37:12 Horrible err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1: Lev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get the concep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548640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2320" y="548640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220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1828800"/>
            <a:ext cx="2210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3505320"/>
            <a:ext cx="12189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tty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533412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96000" y="541008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1600200"/>
            <a:ext cx="220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99ff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638680" y="1600200"/>
            <a:ext cx="22100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038480" y="4038120"/>
            <a:ext cx="121932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lent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38320" y="1676160"/>
            <a:ext cx="2210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5334120"/>
            <a:ext cx="24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g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figu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20040" y="5334120"/>
            <a:ext cx="203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1676520"/>
            <a:ext cx="22096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FA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Courier New"/>
              </a:rPr>
              <a:t>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Courier New"/>
              </a:rPr>
              <a:t>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781680" y="2971800"/>
            <a:ext cx="0" cy="2209680"/>
          </a:xfrm>
          <a:prstGeom prst="line">
            <a:avLst/>
          </a:prstGeom>
          <a:ln w="92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962520" y="1828440"/>
            <a:ext cx="1218960" cy="6858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 Lev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oose them wise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bbe0e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Courier New"/>
              </a:rPr>
              <a:t>TRACE(“$bytes bytes transferred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Courier New"/>
              </a:rPr>
              <a:t>DEBUG(“HTTP get OK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cc"/>
                </a:solidFill>
                <a:latin typeface="Courier New"/>
              </a:rPr>
              <a:t>INFO(“Starting up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66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Courier New"/>
              </a:rPr>
              <a:t>WARN(“HTTP get failed, retrying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Courier New"/>
              </a:rPr>
              <a:t>ERROR(“Out of retries!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FATAL(“Panic! Shutting down.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2: Layou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4perl’s Loggers are aware of their 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package F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sub foo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DEBUG “Starting up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2008/07/13 19:32:39 Start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se Log::Log4perl qw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637 Foo::foo ./Foo.pm-4&gt; Start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Log4perl and not one of the 20 Logging modules on CP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PAN depend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, but scales with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-Awar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ackage mai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se Log::Log4perl (:eas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g::Log4perl-&gt;easy_init(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evel =&gt; $DEBU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yout =&gt; “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%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%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%F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%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 </a:t>
            </a:r>
            <a:r>
              <a:rPr b="1" lang="en-US" sz="2400" spc="-1" strike="noStrike">
                <a:solidFill>
                  <a:srgbClr val="663300"/>
                </a:solidFill>
                <a:latin typeface="Courier New"/>
              </a:rPr>
              <a:t>%m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%n”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o::foo();</a:t>
            </a:r>
            <a:r>
              <a:rPr b="1" lang="en-US" sz="2400" spc="-1" strike="noStrike">
                <a:solidFill>
                  <a:srgbClr val="808080"/>
                </a:solidFill>
                <a:latin typeface="Courier New"/>
              </a:rPr>
              <a:t> # unchang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$ ./h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637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Foo::foo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./Foo.pm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-</a:t>
            </a:r>
            <a:r>
              <a:rPr b="1" lang="en-US" sz="2400" spc="-1" strike="noStrike">
                <a:solidFill>
                  <a:srgbClr val="cc00cc"/>
                </a:solidFill>
                <a:latin typeface="Courier New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400" spc="-1" strike="noStrike">
                <a:solidFill>
                  <a:srgbClr val="0099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rt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1600200"/>
            <a:ext cx="7315200" cy="34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is becomes unwieldy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g::Log4perl-&gt;easy_init(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evel  =&gt; $DEBUG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yout =&gt; “</a:t>
            </a:r>
            <a:r>
              <a:rPr b="1" lang="en-US" sz="2800" spc="-1" strike="noStrike">
                <a:solidFill>
                  <a:srgbClr val="009900"/>
                </a:solidFill>
                <a:latin typeface="Courier New"/>
              </a:rPr>
              <a:t>%r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%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%F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cc00cc"/>
                </a:solidFill>
                <a:latin typeface="Courier New"/>
              </a:rPr>
              <a:t>%L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800" spc="-1" strike="noStrike">
                <a:solidFill>
                  <a:srgbClr val="663300"/>
                </a:solidFill>
                <a:latin typeface="Courier New"/>
              </a:rPr>
              <a:t>%m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%n”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 =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4100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::Log4perl-&gt;init( “l4p.conf”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Confi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ed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tently of the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script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people without access to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3: Categories (Logger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n on Logging Everywh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1600200"/>
            <a:ext cx="9144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20040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20040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426708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267080"/>
            <a:ext cx="1143000" cy="99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5334120"/>
            <a:ext cx="114300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63080" y="156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 = 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Net.Amaz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10080" y="1600200"/>
            <a:ext cx="914400" cy="1295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9132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1028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791320" y="5334120"/>
            <a:ext cx="114300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::Ama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63080" y="156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1600200"/>
            <a:ext cx="914400" cy="1295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m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010280" y="320040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79132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4267080"/>
            <a:ext cx="11430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5334120"/>
            <a:ext cx="1143000" cy="99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t::Ama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63080" y="1560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" y="2438280"/>
            <a:ext cx="4800600" cy="17528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ma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Net.Amazo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83120" y="270360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410080" y="1560600"/>
            <a:ext cx="2743200" cy="4840200"/>
            <a:chOff x="5410080" y="1560600"/>
            <a:chExt cx="2743200" cy="4840200"/>
          </a:xfrm>
        </p:grpSpPr>
        <p:sp>
          <p:nvSpPr>
            <p:cNvPr id="189" name=""/>
            <p:cNvSpPr/>
            <p:nvPr/>
          </p:nvSpPr>
          <p:spPr>
            <a:xfrm>
              <a:off x="5410080" y="1600200"/>
              <a:ext cx="914400" cy="129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791320" y="320040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010280" y="320040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1320" y="426708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010280" y="4267080"/>
              <a:ext cx="1143000" cy="990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63080" y="1560600"/>
              <a:ext cx="76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ri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1320" y="5410080"/>
              <a:ext cx="1143000" cy="9907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410080" y="1600200"/>
              <a:ext cx="914400" cy="1295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Net.Amazon = </a:t>
            </a:r>
            <a:r>
              <a:rPr b="1" lang="en-US" sz="1800" spc="-1" strike="noStrike">
                <a:solidFill>
                  <a:srgbClr val="3366ff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457200" y="5334120"/>
            <a:ext cx="4341960" cy="1294920"/>
            <a:chOff x="457200" y="5334120"/>
            <a:chExt cx="4341960" cy="1294920"/>
          </a:xfrm>
        </p:grpSpPr>
        <p:sp>
          <p:nvSpPr>
            <p:cNvPr id="200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602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898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602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898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60200" y="6362640"/>
              <a:ext cx="1809360" cy="2664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cpan&gt; install Log::Log4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Only requires core modu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d in major Linux di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Courier New"/>
              </a:rPr>
              <a:t>sudo apt-get install liblog-log4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Perl 5.00503 or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dows: ppm package available in ActiveState archives or from log4pe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egory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logger.Net = DEBUG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57200" y="5340240"/>
            <a:ext cx="4341960" cy="1133640"/>
            <a:chOff x="457200" y="5340240"/>
            <a:chExt cx="4341960" cy="1133640"/>
          </a:xfrm>
        </p:grpSpPr>
        <p:sp>
          <p:nvSpPr>
            <p:cNvPr id="210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0200" y="5718240"/>
              <a:ext cx="1809360" cy="23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89800" y="5718240"/>
              <a:ext cx="1809360" cy="23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60200" y="597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t::Goo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89800" y="5970600"/>
              <a:ext cx="1809360" cy="233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60200" y="624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te Control #5: Appen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ot Logg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4p.logger = DEBUG,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Screen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57200" y="5340240"/>
            <a:ext cx="4341960" cy="1133640"/>
            <a:chOff x="457200" y="5340240"/>
            <a:chExt cx="4341960" cy="1133640"/>
          </a:xfrm>
        </p:grpSpPr>
        <p:sp>
          <p:nvSpPr>
            <p:cNvPr id="222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0200" y="571824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989800" y="571824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0200" y="597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et::Goo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989800" y="597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0200" y="6240600"/>
              <a:ext cx="1809360" cy="2332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7200" y="5340240"/>
              <a:ext cx="1446840" cy="3063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DEBUG,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Net.Amazon = DEBUG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l4p.appender.Screen.Layout = Simple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 = Log::Log4perl::Appender::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.filename = /var/log/myapp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l4p.appender.File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457200" y="5181480"/>
            <a:ext cx="7696080" cy="1676520"/>
            <a:chOff x="457200" y="5181480"/>
            <a:chExt cx="7696080" cy="1676520"/>
          </a:xfrm>
        </p:grpSpPr>
        <p:grpSp>
          <p:nvGrpSpPr>
            <p:cNvPr id="232" name=""/>
            <p:cNvGrpSpPr/>
            <p:nvPr/>
          </p:nvGrpSpPr>
          <p:grpSpPr>
            <a:xfrm>
              <a:off x="457200" y="5334120"/>
              <a:ext cx="4341960" cy="1294920"/>
              <a:chOff x="457200" y="5334120"/>
              <a:chExt cx="4341960" cy="1294920"/>
            </a:xfrm>
          </p:grpSpPr>
          <p:sp>
            <p:nvSpPr>
              <p:cNvPr id="233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0602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898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02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9898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060200" y="6362640"/>
                <a:ext cx="1809360" cy="2664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et::Amaz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1905120" y="5486400"/>
              <a:ext cx="5105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95480" y="6477120"/>
              <a:ext cx="4114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5181480"/>
              <a:ext cx="1143000" cy="7621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10280" y="6095880"/>
              <a:ext cx="1143000" cy="76212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Append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different log level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DEBU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Net.Amazon =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ERR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Simple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 = Log::Log4perl::Appender::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filename = /var/log/myapp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457200" y="5181480"/>
            <a:ext cx="7696080" cy="1676520"/>
            <a:chOff x="457200" y="5181480"/>
            <a:chExt cx="7696080" cy="1676520"/>
          </a:xfrm>
        </p:grpSpPr>
        <p:grpSp>
          <p:nvGrpSpPr>
            <p:cNvPr id="247" name=""/>
            <p:cNvGrpSpPr/>
            <p:nvPr/>
          </p:nvGrpSpPr>
          <p:grpSpPr>
            <a:xfrm>
              <a:off x="457200" y="5334120"/>
              <a:ext cx="4341960" cy="1294920"/>
              <a:chOff x="457200" y="5334120"/>
              <a:chExt cx="4341960" cy="1294920"/>
            </a:xfrm>
          </p:grpSpPr>
          <p:sp>
            <p:nvSpPr>
              <p:cNvPr id="248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0602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89800" y="576576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0602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89800" y="6054120"/>
                <a:ext cx="1809360" cy="2664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060200" y="6362640"/>
                <a:ext cx="1809360" cy="2664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Net::Amaz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7200" y="5334120"/>
                <a:ext cx="1446840" cy="34992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ma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1905120" y="5486400"/>
              <a:ext cx="5105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95480" y="6477120"/>
              <a:ext cx="4114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10280" y="5181480"/>
              <a:ext cx="1143000" cy="762120"/>
            </a:xfrm>
            <a:prstGeom prst="rect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c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10280" y="6095880"/>
              <a:ext cx="1143000" cy="762120"/>
            </a:xfrm>
            <a:prstGeom prst="rect">
              <a:avLst/>
            </a:prstGeom>
            <a:solidFill>
              <a:srgbClr val="cc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1600200"/>
            <a:ext cx="8458200" cy="33526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l4p.con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logger.main       = DEBUG, </a:t>
            </a: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Screen, </a:t>
            </a:r>
            <a:r>
              <a:rPr b="1" lang="en-US" sz="1800" spc="-1" strike="noStrike">
                <a:solidFill>
                  <a:srgbClr val="009900"/>
                </a:solidFill>
                <a:latin typeface="Courier New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 = Log::Log4perl::Appender::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Screen.Layout = Simple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 = Log::Log4perl::Appender::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filename = /var/log/myapp.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 = Pattern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4p.appender.File.Layout.ConversionPattern = 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r %M %F-%L&gt; %m%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57200" y="5334120"/>
            <a:ext cx="4341960" cy="1294920"/>
            <a:chOff x="457200" y="5334120"/>
            <a:chExt cx="4341960" cy="1294920"/>
          </a:xfrm>
        </p:grpSpPr>
        <p:sp>
          <p:nvSpPr>
            <p:cNvPr id="262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0602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989800" y="576576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602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89800" y="605412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060200" y="6362640"/>
              <a:ext cx="1809360" cy="266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et::Amaz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5334120"/>
              <a:ext cx="1446840" cy="349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1905120" y="5486400"/>
            <a:ext cx="5105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248520" y="64771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10280" y="5181480"/>
            <a:ext cx="1143000" cy="76212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010280" y="6095880"/>
            <a:ext cx="1143000" cy="7621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248520" y="548640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F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209680" y="1523880"/>
            <a:ext cx="4648320" cy="825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nds a log message (Category, Prio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666880" y="2666880"/>
            <a:ext cx="3657600" cy="11912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4perl Configuration decides go/no go, based on Category and Prior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95680" y="23623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523880" y="4724280"/>
            <a:ext cx="6019920" cy="1069560"/>
            <a:chOff x="1523880" y="4724280"/>
            <a:chExt cx="6019920" cy="1069560"/>
          </a:xfrm>
        </p:grpSpPr>
        <p:sp>
          <p:nvSpPr>
            <p:cNvPr id="279" name=""/>
            <p:cNvSpPr/>
            <p:nvPr/>
          </p:nvSpPr>
          <p:spPr>
            <a:xfrm>
              <a:off x="1523880" y="5334120"/>
              <a:ext cx="1905120" cy="459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81280" y="5334120"/>
              <a:ext cx="1905120" cy="459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8680" y="5334120"/>
              <a:ext cx="1905120" cy="459720"/>
            </a:xfrm>
            <a:prstGeom prst="rect">
              <a:avLst/>
            </a:prstGeom>
            <a:solidFill>
              <a:srgbClr val="ff66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pp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437920" y="4724280"/>
              <a:ext cx="2057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495680" y="4724280"/>
              <a:ext cx="213372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495680" y="4724280"/>
              <a:ext cx="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2666880" y="4191120"/>
            <a:ext cx="3657600" cy="4597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95680" y="3886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4880" y="2895480"/>
            <a:ext cx="52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and Log4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Log4perl ports Log4j to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4j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 fact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logging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, by Ceki Gülc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development: ‘logbac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ogging.apache.org/log4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Log4perl adds perlisms demanded by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01 release 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release 1.17 (07/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s: Mike Schilli, Kevin Go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major banks, target.com, fedex.com, Yahoo!, Google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CPAN modules support it (e.g. Catalyst, Net::Amazon,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major Linux distro has it (Ubuntu, Suse, Fedora 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perl Release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391520" cy="41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 Log4perl as a Remote Control to your Syste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 in small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s easily with growing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4perl-enabled CPAN modules can be used with and without Log4perl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d for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rchitecture,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bine Remote Contro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ode once, and L4p-enabled scripts/modules can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ny logging configuration you d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hanging loggers, appenders and layout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dtrace p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eed to change your source code to change the logging behavi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it and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(“l4p.conf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(\$conf_strin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_and_watch(“l4p.conf”, 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-&gt;init_and_watch(“l4p.conf”, </a:t>
            </a:r>
            <a:r>
              <a:rPr b="1" lang="en-US" sz="2000" spc="-1" strike="noStrike">
                <a:solidFill>
                  <a:srgbClr val="33cc33"/>
                </a:solidFill>
                <a:latin typeface="Courier New"/>
              </a:rPr>
              <a:t>‘HUP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ers are output s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 called if a message passes category and level hurd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Log4perl::Appender::Screen Log::Log4perl::Appender::File Log::Log4perl::Appender::Socket Log::Log4perl::Appender::DBI Log::Log4perl::Appender::Synchronized Log::Log4perl::Appender::R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Dispatch provides even m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Dispatch Appen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::Dispatch::ApacheLog Log::Dispatch::DBI,  Log::Dispatch::Email, Log::Dispatch::Email::MIMELite Log::Dispatch::File Log::Dispatch::FileRotate Log::Dispatch::Screen Log::Dispatch::Syslog,    Log::Dispatch::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Rotating Log File 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5 days of logfiles, then dele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3000" y="2514600"/>
            <a:ext cx="8410320" cy="28382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category = WARN, Logf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 = Log::Dispatch::FileRo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filename    = test.l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max         =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DatePattern = yyyy-MM-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TZ          = P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      = \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g::Log4perl::Layout::Simple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ng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tating File Append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g::Dispatch::FileRo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request pays for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ion runs as particular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Rotators (e.g.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ewsyslo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ag makes sure file appender adju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create_check_inter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on stat()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log-&gt;debug(“Sending Mail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EBUG – Sending Mai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76520" y="3124080"/>
            <a:ext cx="7191000" cy="1008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Screen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::Appender::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Screen.layout = Simple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17880" y="308916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3200400"/>
            <a:ext cx="2133720" cy="459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441972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5486400"/>
            <a:ext cx="213372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2057400"/>
            <a:ext cx="2133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$log-&gt;debug(“Sending Mail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2004/10/17 18:47:25 l4ptest.pl:25&gt; Sending 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5280" y="2438280"/>
            <a:ext cx="8562600" cy="1313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::Layout::PatternLay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.ConversionPattern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 %F{1}:%L&gt; %m %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904320" y="2362320"/>
            <a:ext cx="82274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3300"/>
                </a:solidFill>
                <a:latin typeface="Courier New"/>
              </a:rPr>
              <a:t>%T stack tr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c Category of the logging ev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C Fully qualified package (or class) name of the call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d Current date in yyyy/MM/dd hh:mm:ss forma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F File where the logging event occur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H Hostnam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 calling method + file + 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L Line number within the file where the log statement was issu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m The message to be logg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M Method or function where the logging request was issu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n Newline (OS-independ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p Priority of the logging ev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P pid of the current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r Number of milliseconds elapsed from program star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x The elements of the NDC st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X{key} The entry 'key' of the M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% A literal percent (%) si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not enough? Write your ow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95280" y="2568600"/>
            <a:ext cx="8867520" cy="1923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log4perl.PatternLayout.cspec.U = sub { return "UID $&lt;" }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::Log4perl::Layout::PatternLay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4perl.appender.Logfile.layout.ConversionPattern = 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%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%U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%m %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3489480" y="3316320"/>
            <a:ext cx="3063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133720" y="2743200"/>
            <a:ext cx="43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ch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M/sec suppressed 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k/sec logged messages (memory append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egradation with sub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void Wasting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33520" y="2362320"/>
            <a:ext cx="7467480" cy="1572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for (@super_long_array)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   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$logger-&gt;debug("Element: $_\n"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520" y="4114800"/>
            <a:ext cx="7467480" cy="2253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if($logger-&gt;is_debug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for (@super_long_array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$logger-&gt;debug("Element: $_\n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ty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rrect in a Singl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:resurrect target uncomments lines starting with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##l4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e Log4perl qw(:easy :resurr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foo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#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</a:rPr>
              <a:t>###l4p DEBUG “foo was here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rrect L4p in all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Log::Log4perl::Resurrector touches all subsequently loaded modules (experimental!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use Log4perl qw(:eas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use Log::Log4perl::Resurrecto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use Foo::B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# Deploy a module without requiring L4p at a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package Foo::Ba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###l4p use Log4perl qw(:easy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sub foo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###l4p DEBUG “This will be resurrected!”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411480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4440" y="3235320"/>
            <a:ext cx="2133720" cy="459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4440" y="445464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4440" y="5749920"/>
            <a:ext cx="213372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01000" y="32353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e it in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59960" y="45306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07320" y="57499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it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2057400"/>
            <a:ext cx="2133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73400" y="205740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/Suppress Priority/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uldn’t it be nice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ll modules on CPAN had a standard logging interf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4perl-enable a CPAN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 …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4perl-enable a CPAN Modu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ackage Foo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use Log::Log4perl qw(:eas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ub foo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# … do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cc00"/>
                </a:solidFill>
                <a:latin typeface="Courier New"/>
              </a:rPr>
              <a:t>DEBUG “Fooing $bar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voila, your CPAN module has a built-in remo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60195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 O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ther people debug your module in a standard 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::Log4perl Project Page (includes slides of this talk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ttp:/log4per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ail m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ike Schilli cpan@perlmeister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::Log4perl Remote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2895480"/>
            <a:ext cx="23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2895480"/>
            <a:ext cx="2133720" cy="45972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343400"/>
            <a:ext cx="2133720" cy="459720"/>
          </a:xfrm>
          <a:prstGeom prst="rect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715000"/>
            <a:ext cx="2133720" cy="4597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6920" y="1676520"/>
            <a:ext cx="451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 “Starting up”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RROR “Cannot open $file”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63760" y="4343400"/>
            <a:ext cx="658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ing up” =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007-06-21 07:30:33 Foo.pm-123 Start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105520" y="5410080"/>
            <a:ext cx="1523880" cy="1447920"/>
          </a:xfrm>
          <a:prstGeom prst="flowChartMagneticDisk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ilecab3"/>
          <p:cNvSpPr/>
          <p:nvPr/>
        </p:nvSpPr>
        <p:spPr>
          <a:xfrm>
            <a:off x="2743200" y="5562720"/>
            <a:ext cx="1809720" cy="90468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08760" y="586728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35520" y="571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446600" y="5638680"/>
            <a:ext cx="5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676520"/>
            <a:ext cx="2133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98960" y="3048120"/>
            <a:ext cx="459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logging on i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et::Amaz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nds complica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ly, it’s eas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8:53:16Z</dcterms:created>
  <dc:creator>Yahoo!</dc:creator>
  <dc:description/>
  <dc:language>en-US</dc:language>
  <cp:lastModifiedBy>Yahoo!</cp:lastModifiedBy>
  <dcterms:modified xsi:type="dcterms:W3CDTF">2008-07-30T06:40:13Z</dcterms:modified>
  <cp:revision>86</cp:revision>
  <dc:subject/>
  <dc:title>Smart Logging With Log4perl </dc:title>
</cp:coreProperties>
</file>