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DA55-42D9-472F-A5C4-965F39F1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an modules: users are not even aware they’re using l4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tamp, new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e of passage, templ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pan deps: easy adoption to becom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: cpan smoke t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DCE-9433-40C4-9591-2E4FBC50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37A-8516-43D6-8F45-A5F79245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CEF-B2DC-4459-BD29-6C5D238B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F96-0CC3-42BD-A11E-77EE173D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D34-0B2A-4CCF-A9E5-B35D63E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522-9F9C-4D63-AB16-F8EF9D3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280-E1D3-46BA-9F9F-79C79A55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B66-F316-4509-A790-31BFF6D3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5A8-D7C2-4078-A235-155893AF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BF6-1D24-465A-96B0-002FB76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7CE-75E4-48A1-AEF2-C63F7B1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E00-AC27-4D64-93C1-CAA4E71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C821-9F7C-4CEE-B2EA-815A99AD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logging.apache.org/log4j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4per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Schilli, Yah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ON, 07/2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r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l qw(:eas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DEBUG “Starting up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like macros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get_logger(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r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l qw(get_logge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my $logger = get_logge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$logger-&gt;debug(“Starting up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 it clean? Use Moo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ckage Ferrar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se Mo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with “MooseX::Log::Log4perl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b driv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($self) = @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$self-&gt;log-&gt;debug(“Wroom!!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r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l qw(:eas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DEBUG “Starting up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::Log4perl-&gt;easy_init(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</a:rPr>
              <a:t>$DEBU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2008/07/08 18:37:12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g::Log4perl-&gt;easy_init(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</a:rPr>
              <a:t>$DEBU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DEBUG “Starting up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 … something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ERROR “Horrible error!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2008/07/08 18:37:12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2008/07/08 18:37:12 Horrible err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g::Log4perl-&gt;easy_init(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$ERROR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 “Horrible error!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ging –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in time and figure out what hap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activity on liv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2008/07/08 18:37:12 Horrible err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1: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get the con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548640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2320" y="548640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220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828800"/>
            <a:ext cx="2210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33412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0" y="541008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600200"/>
            <a:ext cx="220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600200"/>
            <a:ext cx="2210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38480" y="4038120"/>
            <a:ext cx="121932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ent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38320" y="1676160"/>
            <a:ext cx="2210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533412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0040" y="533412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676520"/>
            <a:ext cx="220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81680" y="2971800"/>
            <a:ext cx="0" cy="2209680"/>
          </a:xfrm>
          <a:prstGeom prst="line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962520" y="1828440"/>
            <a:ext cx="121896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em wis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Courier New"/>
              </a:rPr>
              <a:t>TRACE(“$bytes bytes transferred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DEBUG(“HTTP get O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Courier New"/>
              </a:rPr>
              <a:t>INFO(“Starting up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66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Courier New"/>
              </a:rPr>
              <a:t>WARN(“HTTP get failed, retryin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ERROR(“Out of retries!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ATAL(“Panic! Shutting down.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2: Lay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4perl’s Loggers are aware of their 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ackage F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ub foo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DEBUG “Starting up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2008/07/13 19:32:39 Star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637 Foo::foo ./Foo.pm-4&gt; Star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og4perl and not one of the 20 Logging modules on C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PAN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, but scales with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Log::Log4perl 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g::Log4perl-&gt;easy_init(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vel =&gt; $DEBU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yout =&gt; “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%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663300"/>
                </a:solidFill>
                <a:latin typeface="Courier New"/>
              </a:rPr>
              <a:t>%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n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::foo();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# unchan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637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oo::foo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./Foo.pm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00200"/>
            <a:ext cx="731520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becomes unwiel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::Log4perl-&gt;easy_init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vel  =&gt; $DE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yout =&gt; “</a:t>
            </a: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%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%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%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%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800" spc="-1" strike="noStrike">
                <a:solidFill>
                  <a:srgbClr val="663300"/>
                </a:solidFill>
                <a:latin typeface="Courier New"/>
              </a:rPr>
              <a:t>%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n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 =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410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::Log4perl-&gt;init( “l4p.conf”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Confi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e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tently of the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script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eople without access to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3: Categories (Logg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on Logging Every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00200"/>
            <a:ext cx="9144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20040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20040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26708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26708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334120"/>
            <a:ext cx="114300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63080" y="156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 = 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Net.Amaz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1600200"/>
            <a:ext cx="9144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5334120"/>
            <a:ext cx="114300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::Ama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63080" y="156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9144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5334120"/>
            <a:ext cx="1143000" cy="9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::Ama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63080" y="156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Net.Amaz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0080" y="1560600"/>
            <a:ext cx="2743200" cy="4840200"/>
            <a:chOff x="5410080" y="1560600"/>
            <a:chExt cx="2743200" cy="4840200"/>
          </a:xfrm>
        </p:grpSpPr>
        <p:sp>
          <p:nvSpPr>
            <p:cNvPr id="189" name=""/>
            <p:cNvSpPr/>
            <p:nvPr/>
          </p:nvSpPr>
          <p:spPr>
            <a:xfrm>
              <a:off x="5410080" y="1600200"/>
              <a:ext cx="914400" cy="129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320040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320040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6708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26708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63080" y="156060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5410080"/>
              <a:ext cx="1143000" cy="990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1600200"/>
              <a:ext cx="914400" cy="129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Net.Amazon =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5334120"/>
            <a:ext cx="4341960" cy="1294920"/>
            <a:chOff x="457200" y="5334120"/>
            <a:chExt cx="4341960" cy="1294920"/>
          </a:xfrm>
        </p:grpSpPr>
        <p:sp>
          <p:nvSpPr>
            <p:cNvPr id="200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02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898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02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898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0200" y="6362640"/>
              <a:ext cx="1809360" cy="266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pan&gt; install Log::Log4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Only requires core mod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in major Linux di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do apt-get install liblog-log4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Perl 5.00503 or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: ppm package available in ActiveState archives or from log4pe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y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logger.Net = 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5340240"/>
            <a:ext cx="4341960" cy="1133640"/>
            <a:chOff x="457200" y="5340240"/>
            <a:chExt cx="4341960" cy="1133640"/>
          </a:xfrm>
        </p:grpSpPr>
        <p:sp>
          <p:nvSpPr>
            <p:cNvPr id="210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0200" y="5718240"/>
              <a:ext cx="1809360" cy="23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89800" y="5718240"/>
              <a:ext cx="1809360" cy="23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0200" y="597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t::Goo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89800" y="5970600"/>
              <a:ext cx="1809360" cy="23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0200" y="624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5: Appen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Lo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4p.logger = DEBUG,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5340240"/>
            <a:ext cx="4341960" cy="1133640"/>
            <a:chOff x="457200" y="5340240"/>
            <a:chExt cx="4341960" cy="1133640"/>
          </a:xfrm>
        </p:grpSpPr>
        <p:sp>
          <p:nvSpPr>
            <p:cNvPr id="222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200" y="571824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9800" y="571824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0200" y="597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t::Goo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9800" y="597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0200" y="624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DEBUG,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Net.Amazon = DEBUG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4p.appender.Screen.Layout = Simple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 = Log::Log4perl::Appender::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.filename = /var/log/myapp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181480"/>
            <a:ext cx="7696080" cy="1676520"/>
            <a:chOff x="457200" y="5181480"/>
            <a:chExt cx="7696080" cy="1676520"/>
          </a:xfrm>
        </p:grpSpPr>
        <p:grpSp>
          <p:nvGrpSpPr>
            <p:cNvPr id="232" name=""/>
            <p:cNvGrpSpPr/>
            <p:nvPr/>
          </p:nvGrpSpPr>
          <p:grpSpPr>
            <a:xfrm>
              <a:off x="457200" y="5334120"/>
              <a:ext cx="4341960" cy="1294920"/>
              <a:chOff x="457200" y="5334120"/>
              <a:chExt cx="4341960" cy="129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602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898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02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898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60200" y="6362640"/>
                <a:ext cx="1809360" cy="2664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et::Amaz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905120" y="5486400"/>
              <a:ext cx="5105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6477120"/>
              <a:ext cx="4114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5181480"/>
              <a:ext cx="1143000" cy="762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6095880"/>
              <a:ext cx="1143000" cy="76212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Append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ifferent log leve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Net.Amazon =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Simple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 = Log::Log4perl::Appender::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filename = /var/log/myapp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" y="5181480"/>
            <a:ext cx="7696080" cy="1676520"/>
            <a:chOff x="457200" y="5181480"/>
            <a:chExt cx="7696080" cy="1676520"/>
          </a:xfrm>
        </p:grpSpPr>
        <p:grpSp>
          <p:nvGrpSpPr>
            <p:cNvPr id="247" name=""/>
            <p:cNvGrpSpPr/>
            <p:nvPr/>
          </p:nvGrpSpPr>
          <p:grpSpPr>
            <a:xfrm>
              <a:off x="457200" y="5334120"/>
              <a:ext cx="4341960" cy="1294920"/>
              <a:chOff x="457200" y="5334120"/>
              <a:chExt cx="4341960" cy="1294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02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898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602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898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60200" y="6362640"/>
                <a:ext cx="1809360" cy="2664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et::Amaz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905120" y="5486400"/>
              <a:ext cx="5105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95480" y="6477120"/>
              <a:ext cx="4114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10280" y="5181480"/>
              <a:ext cx="1143000" cy="762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0280" y="6095880"/>
              <a:ext cx="1143000" cy="76212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DEBUG,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Screen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Simple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 = Log::Log4perl::Appender::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filename = /var/log/myapp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7200" y="5334120"/>
            <a:ext cx="4341960" cy="1294920"/>
            <a:chOff x="457200" y="5334120"/>
            <a:chExt cx="4341960" cy="1294920"/>
          </a:xfrm>
        </p:grpSpPr>
        <p:sp>
          <p:nvSpPr>
            <p:cNvPr id="262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02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898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02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898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200" y="636264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905120" y="5486400"/>
            <a:ext cx="5105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5181480"/>
            <a:ext cx="114300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6095880"/>
            <a:ext cx="114300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248520" y="54864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1523880"/>
            <a:ext cx="46483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nds a log message (Category,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666880"/>
            <a:ext cx="3657600" cy="119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4perl Configuration decides go/no go, based on Category and Pri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362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23880" y="4724280"/>
            <a:ext cx="6019920" cy="1069560"/>
            <a:chOff x="1523880" y="4724280"/>
            <a:chExt cx="6019920" cy="1069560"/>
          </a:xfrm>
        </p:grpSpPr>
        <p:sp>
          <p:nvSpPr>
            <p:cNvPr id="279" name=""/>
            <p:cNvSpPr/>
            <p:nvPr/>
          </p:nvSpPr>
          <p:spPr>
            <a:xfrm>
              <a:off x="1523880" y="5334120"/>
              <a:ext cx="1905120" cy="459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5334120"/>
              <a:ext cx="1905120" cy="459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8680" y="5334120"/>
              <a:ext cx="1905120" cy="459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437920" y="4724280"/>
              <a:ext cx="2057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95680" y="4724280"/>
              <a:ext cx="213372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5680" y="47242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666880" y="4191120"/>
            <a:ext cx="36576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4880" y="289548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and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Log4perl ports Log4j to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4j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fac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logg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, by Ceki Gülc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development: ‘logbac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gging.apache.org/log4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Log4perl adds perlisms demanded by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release 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lease 1.17 (07/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: Mike Schilli, Kevin Go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major banks, target.com, fedex.com, Yahoo!, Google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CPAN modules support it (e.g. Catalyst, Net::Amazon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jor Linux distro has it (Ubuntu, Suse, Fedora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Releas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Log4perl as a Remote Control to your Syst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in small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easily with growing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4perl-enabled CPAN modules can be used with and without Log4perl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d fo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rchitecture,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de once, and L4p-enabled scripts/modules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y logging configuration you d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loggers, appenders and layout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trace p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change your source code to change the logg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 and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(“l4p.con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(\$conf_strin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_and_watch(“l4p.conf”, 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_and_watch(“l4p.conf”, 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‘HUP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ers are output s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alled if a message passes category and level hur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Log4perl::Appender::Screen Log::Log4perl::Appender::File Log::Log4perl::Appender::Socket Log::Log4perl::Appender::DBI Log::Log4perl::Appender::Synchronized Log::Log4perl::Appender::R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Dispatch provides even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Dispatch 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Dispatch::ApacheLog Log::Dispatch::DBI,  Log::Dispatch::Email, Log::Dispatch::Email::MIMELite Log::Dispatch::File Log::Dispatch::FileRotate Log::Dispatch::Screen Log::Dispatch::Syslog,    Log::Dispatch::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otating Log File 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5 days of logfiles, then dele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3000" y="2514600"/>
            <a:ext cx="8410320" cy="28382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category = WARN, Log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 = Log::Dispatch::FileRo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filename    = test.l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max         =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DatePattern = yyyy-MM-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TZ          = P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      =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::Log4perl::Layout::Simple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ng File App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::Dispatch::File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quest pays for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runs as particular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Rotators (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sysl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ag makes sure file appender adju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reate_check_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on stat()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log-&gt;debug(“Sending Mai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BUG – Sending Mai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6520" y="3124080"/>
            <a:ext cx="7191000" cy="100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Screen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::Appender::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Screen.layout = Simple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17880" y="30891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200400"/>
            <a:ext cx="2133720" cy="459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1972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486400"/>
            <a:ext cx="21337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057400"/>
            <a:ext cx="2133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log-&gt;debug(“Sending Mai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004/10/17 18:47:25 l4ptest.pl:25&gt; Sending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2438280"/>
            <a:ext cx="8562600" cy="131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::Layout::PatternLay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.ConversionPattern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 %F{1}:%L&gt; %m %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04320" y="2362320"/>
            <a:ext cx="8227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ourier New"/>
              </a:rPr>
              <a:t>%T stack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 Category of the logging ev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 Fully qualified package (or class) name of the cal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d Current date in yyyy/MM/dd hh:mm:ss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F File where the logging event occur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H Hostn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 calling method + file + 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 Line number within the file where the log statement was issu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m The message to be log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M Method or function where the logging request was issu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n Newline (OS-independ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p Priority of the logging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P pid of the current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r Number of milliseconds elapsed from program st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x The elements of the NDC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X{key} The entry 'key' of the M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% A literal percent (%) 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not enough? Write your 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5280" y="2568600"/>
            <a:ext cx="8867520" cy="1923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og4perl.PatternLayout.cspec.U = sub { return "UID $&lt;"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::Layout::PatternLay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.ConversionPattern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%U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%m %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489480" y="3316320"/>
            <a:ext cx="306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7432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/sec suppressed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k/sec logged messages (memory app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gradation with sub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Wasting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362320"/>
            <a:ext cx="7467480" cy="157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for (@super_long_array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$logger-&gt;debug("Element: $_\n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4114800"/>
            <a:ext cx="7467480" cy="225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if($logger-&gt;is_debug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or (@super_long_array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$logger-&gt;debug("Element: $_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ty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rrect in a Singl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:resurrect target uncomments lines starting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##l4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Log4perl qw(:easy :resurr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fo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###l4p DEBUG “foo was here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rrect L4p in all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Log::Log4perl::Resurrector touches all subsequently loaded modules (experimental!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use Log4perl qw(:eas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use Log::Log4perl::Resurrect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use Foo::B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# Deploy a module without requiring L4p at 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package Foo::B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###l4p use Log4perl qw(:eas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sub fo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###l4p DEBUG “This will be resurrected!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411480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4440" y="3235320"/>
            <a:ext cx="2133720" cy="459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4440" y="445464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4440" y="5749920"/>
            <a:ext cx="21337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1000" y="32353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it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9960" y="4530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07320" y="57499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it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2133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3400" y="20574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/Suppress Priority/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n’t it be nic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modules on CPAN had a standard logging inter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4perl-enable a CPAN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 …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4perl-enable a CPAN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rl qw(:eas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 …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DEBUG “Fooing $bar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voila, your CPAN module has a built-in remo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ther people debug your module in a standard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::Log4perl Project Page (includes slides of this talk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log4pe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ail 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ke Schilli cpan@perlmeis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89548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895480"/>
            <a:ext cx="2133720" cy="459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34340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715000"/>
            <a:ext cx="21337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6920" y="1676520"/>
            <a:ext cx="45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ROR “Cannot open $file”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3760" y="43434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ing up”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07-06-21 07:30:33 Foo.pm-123 Start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5410080"/>
            <a:ext cx="1523880" cy="144792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ilecab3"/>
          <p:cNvSpPr/>
          <p:nvPr/>
        </p:nvSpPr>
        <p:spPr>
          <a:xfrm>
            <a:off x="2743200" y="5562720"/>
            <a:ext cx="1809720" cy="9046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8760" y="5867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35520" y="571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46600" y="5638680"/>
            <a:ext cx="5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76520"/>
            <a:ext cx="2133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8960" y="304812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logging on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::Amaz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s compli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it’s eas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8:53:16Z</dcterms:created>
  <dc:creator>Yahoo!</dc:creator>
  <dc:description/>
  <dc:language>en-US</dc:language>
  <cp:lastModifiedBy>Yahoo!</cp:lastModifiedBy>
  <dcterms:modified xsi:type="dcterms:W3CDTF">2008-07-30T06:40:13Z</dcterms:modified>
  <cp:revision>86</cp:revision>
  <dc:subject/>
  <dc:title>Smart Logging With Log4perl </dc:title>
</cp:coreProperties>
</file>