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26EB-947D-4016-B13B-4196EACB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76D7-6F4A-4157-8CBB-FE32A80C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6BD-D9D6-45B5-B7C1-8C652988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27D1-A855-42C9-96DD-8AC0547A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0F80-1F55-4A12-8E01-88892818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D83F-0614-40E2-8E5A-218B80EA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EA3A-4F45-4804-9174-792D3153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36EE-C328-48F7-9DD1-95BF35F7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D488-193F-410E-B89D-4C451A49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D068-57C1-44F2-9E63-BD16CB49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A562-92C9-4C85-8778-E74B4362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EEF-9292-49A6-8D56-31769FD6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96A2-ACE9-4836-8E8B-1730E62B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7165-2C3B-442E-B6BF-B1564D1C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F055-036F-4CDF-AC82-D84B2E9F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E67F-5B66-4F85-861E-B450B804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3EBC-4719-4F90-B74B-6A922A8C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668A-3AAF-4DB7-B05A-F11D6C31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F44-257B-49EC-AF26-7163B1E4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B2B1-5007-4910-80F4-B30F1D01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F1A1-5783-4273-98EC-35BD3918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186-9A8B-448B-806B-26B167CD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B57D-4B5F-425C-9224-4CDD8819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9D3-1FF1-4E0B-8B28-49FDFB0A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0E89-6B97-4F8E-830D-6620C09F5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F68E-9CC7-4997-BD9A-4393172F4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41400" y="732312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44560" y="4282920"/>
            <a:ext cx="7026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668680" y="6908760"/>
            <a:ext cx="702288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October 20, 20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584440" y="5481000"/>
            <a:ext cx="73612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Javolution C++</a:t>
            </a:r>
            <a:br>
              <a:rPr sz="2700"/>
            </a:br>
            <a:r>
              <a:rPr b="1" i="1" lang="en-US" sz="2700" spc="-1" strike="noStrike">
                <a:solidFill>
                  <a:srgbClr val="333399"/>
                </a:solidFill>
                <a:latin typeface="Arial"/>
              </a:rPr>
              <a:t>They call him Ginger!</a:t>
            </a:r>
            <a:br>
              <a:rPr sz="2700"/>
            </a:b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« 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t looks like Java, it tastes likes Java… but it is C++ 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2"/>
          <a:stretch/>
        </p:blipFill>
        <p:spPr>
          <a:xfrm>
            <a:off x="2602080" y="353880"/>
            <a:ext cx="399384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9520" y="195120"/>
            <a:ext cx="905508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Miscellaneou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52240" y="1072800"/>
            <a:ext cx="88023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Limited reflection support through RT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Auto-boxing of primitive types (boolean, integer, float, wide strings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32 i = 23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64 f = 3.56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b = </a:t>
            </a:r>
            <a:r>
              <a:rPr b="0" lang="en-US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</a:t>
            </a:r>
            <a:r>
              <a:rPr b="0" lang="en-US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L"xx"</a:t>
            </a:r>
            <a:r>
              <a:rPr b="0" lang="en-US" sz="1600" spc="-1" strike="noStrike">
                <a:solidFill>
                  <a:srgbClr val="0066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All variables are initialized to Type::Null (NullPointerException if not set before use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Wide-String (literal) concatenation suppor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5000"/>
              </a:lnSpc>
              <a:buClr>
                <a:srgbClr val="cc3300"/>
              </a:buClr>
              <a:buFont typeface="Courier New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thro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timeException_API::newInstance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5000"/>
              </a:lnSpc>
              <a:buClr>
                <a:srgbClr val="006600"/>
              </a:buClr>
              <a:buFont typeface="Courier New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L"Bundle 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symbolicName + </a:t>
            </a:r>
            <a:r>
              <a:rPr b="0" lang="en-US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L" not in a resolved state“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1600" spc="-1" strike="noStrike">
                <a:solidFill>
                  <a:srgbClr val="0066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Dynamic length array Type::Array&lt;type&gt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:Array&lt;ServiceReference&gt; service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= context-&gt;getServiceReferences(serviceName, Type::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erviceReferences.length == 0)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9520" y="195120"/>
            <a:ext cx="905508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Minor differences with Jav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77880" y="1150920"/>
            <a:ext cx="8802720" cy="57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1144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No ‘finally’ keyword in C++ (but try…catch same as Java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Static methods are called using the name of the class with the suffix ‘_API’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Generalized use of static factory methods, e.g. MyClass_API::newInstance(…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Synchronization not supported on every object but only on those whose class implements the Object_API::getMutex() virtual metho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4143240" y="7128000"/>
            <a:ext cx="2455920" cy="3096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9520" y="195120"/>
            <a:ext cx="905508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What next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77880" y="1150920"/>
            <a:ext cx="8802720" cy="57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Automatic translator (JavaCC based)  of Java source code to Javolution C++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More Java library conversion (e.g. OpenSDK, JScience, …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Help wanted in writing the translator tool </a:t>
            </a:r>
            <a:r>
              <a:rPr b="1" lang="en-US" sz="27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9520" y="195120"/>
            <a:ext cx="905508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What is the problem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77880" y="1150920"/>
            <a:ext cx="8802720" cy="57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More and more hybrid C++/Java proje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33339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eveloper expertise required in both Java and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C++ total cost is significantly hig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33339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But cost of migrating existing C++ components to Java is prohibitiv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Standardized and well established software practices exist in the Java world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33339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C++ developers are on their own (multiple solutions to address the same problems lead to additional complexit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Many Open-Source implementations of Software Standards exist only in Java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33339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OSGi, GeoAPI, UnitsOfMeasure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9520" y="195120"/>
            <a:ext cx="905508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Many causes of variability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77880" y="1150920"/>
            <a:ext cx="8802720" cy="57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Developers expertise varies considerabl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Testing performed at the end (integration) due to component inter-dependencie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Insufficient document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Not Invented Here” Syndrom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Proprietary solutions not maintained which later become legacy burde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It is very beneficial to follow well-established standard specific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006600"/>
                </a:solidFill>
                <a:latin typeface="Arial"/>
              </a:rPr>
              <a:t>Doing the right thing is difficult, but doing it right is easier.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9520" y="195120"/>
            <a:ext cx="905508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Javo(So)lution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2680" y="1150920"/>
            <a:ext cx="9437760" cy="57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Uniformization of C++/Java development through the use of a common framework (Javolution) based on Java standard library specific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Facilitating the migration of Java OSS code to C++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Promote the “Service Oriented Approach” by providing an OSGi framework for both Java and C++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Reduce documentation by having the same specification/design for our Java and C++ componen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Unification of code building for Java and C++ (maven used for both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9520" y="195120"/>
            <a:ext cx="905508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2e3192"/>
                </a:solidFill>
                <a:latin typeface="Arial"/>
              </a:rPr>
              <a:t>Maven Buil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77880" y="1150560"/>
            <a:ext cx="880272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2e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3192"/>
                </a:solidFill>
                <a:latin typeface="Arial"/>
              </a:rPr>
              <a:t>Apache Maven</a:t>
            </a:r>
            <a:r>
              <a:rPr b="0" lang="en-US" sz="2400" spc="-1" strike="noStrike">
                <a:solidFill>
                  <a:srgbClr val="2e3192"/>
                </a:solidFill>
                <a:latin typeface="Arial"/>
              </a:rPr>
              <a:t> (maven native plugin) is used to produce artifacts (dynamic libraries, static libraries, executable) and to perform unit t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e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192"/>
                </a:solidFill>
                <a:latin typeface="Arial"/>
              </a:rPr>
              <a:t>Profiles and packaging classifiers are used to address platform variability (windows, linux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1"/>
          <a:stretch/>
        </p:blipFill>
        <p:spPr>
          <a:xfrm>
            <a:off x="1100160" y="3738600"/>
            <a:ext cx="8383680" cy="3238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2"/>
          <a:stretch/>
        </p:blipFill>
        <p:spPr>
          <a:xfrm>
            <a:off x="6264360" y="168120"/>
            <a:ext cx="337824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9520" y="195120"/>
            <a:ext cx="905508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What is Javolution C++ 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71240" y="1073160"/>
            <a:ext cx="9297720" cy="57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A mirrored C++ library sharing the same specifications, documentation and unit testing as its Java penda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A “behind-the-scenes” C++ infrastructure based on smart pointers (real-time garbage collection through reference counting)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Integrated memory cache making small, short lived objects (e.g. value types) very effici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C++ packages/classes derived from standard Java (e.g. javolution::lang, javolution::util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A C++ dynamic execution and testing framework (OSGi &amp; JUnit) identical to Jav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9520" y="195120"/>
            <a:ext cx="905508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C++ Class Defini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77880" y="1150920"/>
            <a:ext cx="901080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1144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general pattern for class/interface is as follow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#include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javolution/lang/Object.hpp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namespace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 { 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namespace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a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o_API;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32946a"/>
                </a:solidFill>
                <a:latin typeface="Courier New"/>
                <a:ea typeface="Courier New"/>
              </a:rPr>
              <a:t>// Value type (used to define the AP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typedef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:Handle&lt;Foo_API&gt; Foo; </a:t>
            </a:r>
            <a:r>
              <a:rPr b="0" lang="en-US" sz="1600" spc="-1" strike="noStrike">
                <a:solidFill>
                  <a:srgbClr val="32946a"/>
                </a:solidFill>
                <a:latin typeface="Courier New"/>
                <a:ea typeface="Courier New"/>
              </a:rPr>
              <a:t>// Reference (same as Ja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::bar::Foo_API :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virtual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avolution::lang::Object_API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m param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protected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o_API(Param const&amp; param) {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32946a"/>
                </a:solidFill>
                <a:latin typeface="Courier New"/>
                <a:ea typeface="Courier New"/>
              </a:rPr>
              <a:t>// const&amp; for handles parame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this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aram = param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static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o newInstance(Param const&amp; param) { </a:t>
            </a:r>
            <a:r>
              <a:rPr b="0" lang="en-US" sz="1600" spc="-1" strike="noStrike">
                <a:solidFill>
                  <a:srgbClr val="32946a"/>
                </a:solidFill>
                <a:latin typeface="Courier New"/>
                <a:ea typeface="Courier New"/>
              </a:rPr>
              <a:t>// Generalized us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return new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o_API(param);               </a:t>
            </a:r>
            <a:r>
              <a:rPr b="0" lang="en-US" sz="1600" spc="-1" strike="noStrike">
                <a:solidFill>
                  <a:srgbClr val="32946a"/>
                </a:solidFill>
                <a:latin typeface="Courier New"/>
                <a:ea typeface="Courier New"/>
              </a:rPr>
              <a:t>// factory metho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virtual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oMethod () { ... }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9520" y="195120"/>
            <a:ext cx="905508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C++ Parameterization – Better than Java!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77880" y="1150920"/>
            <a:ext cx="9437760" cy="57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Unlike Java, C++ class parameterization is not syntactic sugar but efficient use of C++ templates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All javolution::util collections are parameteriz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ring&gt; list = FastTable_API&lt;String&gt;::newInstance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-&gt;add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  <a:ea typeface="Courier New"/>
              </a:rPr>
              <a:t>L"First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-&gt;add(Type::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-&gt;add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  <a:ea typeface="Courier New"/>
              </a:rPr>
              <a:t>L"Second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Also used for Java-Like Enu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9520" y="195120"/>
            <a:ext cx="905508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Synchroniz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77880" y="1150920"/>
            <a:ext cx="9183600" cy="57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Supported through a macro: </a:t>
            </a:r>
            <a:r>
              <a:rPr b="1" lang="en-US" sz="2700" spc="-1" strike="noStrike">
                <a:solidFill>
                  <a:srgbClr val="cc3300"/>
                </a:solidFill>
                <a:latin typeface="Arial"/>
              </a:rPr>
              <a:t>synchronized(Object)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 mimicking the Java synchronized keyword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Can be performed on instances of Javolution collections and Class (for static synchronization)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synchronize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trackedServices) {</a:t>
            </a:r>
            <a:r>
              <a:rPr b="0" lang="en-US" sz="1600" spc="-1" strike="noStrike">
                <a:solidFill>
                  <a:srgbClr val="3f7f5f"/>
                </a:solidFill>
                <a:latin typeface="Courier New"/>
                <a:ea typeface="Courier New"/>
              </a:rPr>
              <a:t>// trackedServices instance of Fast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0055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serviceReferences.length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servi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= actualCustomizer-&gt;addingService(serviceReferences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kedServices-&gt;put(serviceReferences[i], servic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kingCoun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Jean-Marie DAUTELLE</cp:lastModifiedBy>
  <dcterms:modified xsi:type="dcterms:W3CDTF">2012-11-16T18:38:42Z</dcterms:modified>
  <cp:revision>36</cp:revision>
  <dc:subject/>
  <dc:title>PowerPoint Presentation</dc:title>
</cp:coreProperties>
</file>