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7640" y="892080"/>
            <a:ext cx="6802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800" spc="-1" strike="noStrike">
              <a:solidFill>
                <a:srgbClr val="367c9a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77640" y="2271240"/>
            <a:ext cx="680220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7640" y="5955480"/>
            <a:ext cx="680220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77640" y="892080"/>
            <a:ext cx="6802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800" spc="-1" strike="noStrike">
              <a:solidFill>
                <a:srgbClr val="367c9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77640" y="2271240"/>
            <a:ext cx="331920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863160" y="2271240"/>
            <a:ext cx="331920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77640" y="5955480"/>
            <a:ext cx="331920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863160" y="5955480"/>
            <a:ext cx="331920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7640" y="892080"/>
            <a:ext cx="6802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800" spc="-1" strike="noStrike">
              <a:solidFill>
                <a:srgbClr val="367c9a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7640" y="2271240"/>
            <a:ext cx="219024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677680" y="2271240"/>
            <a:ext cx="219024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78080" y="2271240"/>
            <a:ext cx="219024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77640" y="5955480"/>
            <a:ext cx="219024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677680" y="5955480"/>
            <a:ext cx="219024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978080" y="5955480"/>
            <a:ext cx="219024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7640" y="892080"/>
            <a:ext cx="6802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800" spc="-1" strike="noStrike">
              <a:solidFill>
                <a:srgbClr val="367c9a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77640" y="2271240"/>
            <a:ext cx="6802200" cy="705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77640" y="892080"/>
            <a:ext cx="6802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800" spc="-1" strike="noStrike">
              <a:solidFill>
                <a:srgbClr val="367c9a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77640" y="2271240"/>
            <a:ext cx="6802200" cy="705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7640" y="892080"/>
            <a:ext cx="6802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800" spc="-1" strike="noStrike">
              <a:solidFill>
                <a:srgbClr val="367c9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7640" y="2271240"/>
            <a:ext cx="3319200" cy="705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63160" y="2271240"/>
            <a:ext cx="3319200" cy="705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7640" y="892080"/>
            <a:ext cx="6802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800" spc="-1" strike="noStrike">
              <a:solidFill>
                <a:srgbClr val="367c9a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77640" y="892080"/>
            <a:ext cx="680220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77640" y="892080"/>
            <a:ext cx="6802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800" spc="-1" strike="noStrike">
              <a:solidFill>
                <a:srgbClr val="367c9a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77640" y="2271240"/>
            <a:ext cx="331920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63160" y="2271240"/>
            <a:ext cx="3319200" cy="705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77640" y="5955480"/>
            <a:ext cx="331920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7640" y="892080"/>
            <a:ext cx="6802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800" spc="-1" strike="noStrike">
              <a:solidFill>
                <a:srgbClr val="367c9a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7640" y="2271240"/>
            <a:ext cx="3319200" cy="705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63160" y="2271240"/>
            <a:ext cx="331920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63160" y="5955480"/>
            <a:ext cx="331920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77640" y="892080"/>
            <a:ext cx="6802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800" spc="-1" strike="noStrike">
              <a:solidFill>
                <a:srgbClr val="367c9a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77640" y="2271240"/>
            <a:ext cx="331920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3160" y="2271240"/>
            <a:ext cx="331920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77640" y="5955480"/>
            <a:ext cx="680220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"/>
          <p:cNvGraphicFramePr/>
          <p:nvPr/>
        </p:nvGraphicFramePr>
        <p:xfrm>
          <a:off x="4686480" y="9450360"/>
          <a:ext cx="2455560" cy="61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6480" y="9450360"/>
                    <a:ext cx="245556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7640" y="892080"/>
            <a:ext cx="6802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3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800" spc="-1" strike="noStrike">
                <a:solidFill>
                  <a:srgbClr val="367c9a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367c9a"/>
              </a:solidFill>
              <a:latin typeface="Tahoma"/>
            </a:endParaRPr>
          </a:p>
        </p:txBody>
      </p:sp>
      <p:sp>
        <p:nvSpPr>
          <p:cNvPr id="3" name="AutoShape 3"/>
          <p:cNvSpPr/>
          <p:nvPr/>
        </p:nvSpPr>
        <p:spPr>
          <a:xfrm>
            <a:off x="5506920" y="4683240"/>
            <a:ext cx="2054520" cy="1947600"/>
          </a:xfrm>
          <a:prstGeom prst="roundRect">
            <a:avLst>
              <a:gd name="adj" fmla="val 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AutoShape 4"/>
          <p:cNvSpPr/>
          <p:nvPr/>
        </p:nvSpPr>
        <p:spPr>
          <a:xfrm>
            <a:off x="458640" y="677880"/>
            <a:ext cx="5218200" cy="50760"/>
          </a:xfrm>
          <a:prstGeom prst="roundRect">
            <a:avLst>
              <a:gd name="adj" fmla="val 3125"/>
            </a:avLst>
          </a:prstGeom>
          <a:solidFill>
            <a:srgbClr val="367c9a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Oval 5"/>
          <p:cNvSpPr/>
          <p:nvPr/>
        </p:nvSpPr>
        <p:spPr>
          <a:xfrm>
            <a:off x="6931080" y="541440"/>
            <a:ext cx="98280" cy="104760"/>
          </a:xfrm>
          <a:prstGeom prst="ellipse">
            <a:avLst/>
          </a:prstGeom>
          <a:solidFill>
            <a:srgbClr val="60a8c8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Oval 6"/>
          <p:cNvSpPr/>
          <p:nvPr/>
        </p:nvSpPr>
        <p:spPr>
          <a:xfrm>
            <a:off x="6678720" y="765000"/>
            <a:ext cx="98280" cy="105120"/>
          </a:xfrm>
          <a:prstGeom prst="ellipse">
            <a:avLst/>
          </a:prstGeom>
          <a:solidFill>
            <a:srgbClr val="60a8c8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Oval 7"/>
          <p:cNvSpPr/>
          <p:nvPr/>
        </p:nvSpPr>
        <p:spPr>
          <a:xfrm>
            <a:off x="6566040" y="482760"/>
            <a:ext cx="98280" cy="104760"/>
          </a:xfrm>
          <a:prstGeom prst="ellipse">
            <a:avLst/>
          </a:prstGeom>
          <a:solidFill>
            <a:srgbClr val="60a8c8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Oval 8"/>
          <p:cNvSpPr/>
          <p:nvPr/>
        </p:nvSpPr>
        <p:spPr>
          <a:xfrm>
            <a:off x="6915240" y="779400"/>
            <a:ext cx="98280" cy="104760"/>
          </a:xfrm>
          <a:prstGeom prst="ellipse">
            <a:avLst/>
          </a:prstGeom>
          <a:solidFill>
            <a:srgbClr val="60a8c8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9"/>
          <p:cNvSpPr/>
          <p:nvPr/>
        </p:nvSpPr>
        <p:spPr>
          <a:xfrm>
            <a:off x="6215040" y="704880"/>
            <a:ext cx="98280" cy="104760"/>
          </a:xfrm>
          <a:prstGeom prst="ellipse">
            <a:avLst/>
          </a:prstGeom>
          <a:solidFill>
            <a:srgbClr val="60a8c8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Oval 10"/>
          <p:cNvSpPr/>
          <p:nvPr/>
        </p:nvSpPr>
        <p:spPr>
          <a:xfrm>
            <a:off x="6132600" y="438120"/>
            <a:ext cx="98280" cy="104760"/>
          </a:xfrm>
          <a:prstGeom prst="ellipse">
            <a:avLst/>
          </a:prstGeom>
          <a:solidFill>
            <a:srgbClr val="60a8c8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Oval 11"/>
          <p:cNvSpPr/>
          <p:nvPr/>
        </p:nvSpPr>
        <p:spPr>
          <a:xfrm>
            <a:off x="6754680" y="357120"/>
            <a:ext cx="98640" cy="104760"/>
          </a:xfrm>
          <a:prstGeom prst="ellipse">
            <a:avLst/>
          </a:prstGeom>
          <a:solidFill>
            <a:srgbClr val="60a8c8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Line 12"/>
          <p:cNvSpPr/>
          <p:nvPr/>
        </p:nvSpPr>
        <p:spPr>
          <a:xfrm>
            <a:off x="6200640" y="558720"/>
            <a:ext cx="47880" cy="133560"/>
          </a:xfrm>
          <a:prstGeom prst="line">
            <a:avLst/>
          </a:prstGeom>
          <a:ln w="9360">
            <a:solidFill>
              <a:srgbClr val="60a8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Line 13"/>
          <p:cNvSpPr/>
          <p:nvPr/>
        </p:nvSpPr>
        <p:spPr>
          <a:xfrm>
            <a:off x="6265800" y="504720"/>
            <a:ext cx="273240" cy="12960"/>
          </a:xfrm>
          <a:prstGeom prst="line">
            <a:avLst/>
          </a:prstGeom>
          <a:ln w="9360">
            <a:solidFill>
              <a:srgbClr val="60a8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Line 14"/>
          <p:cNvSpPr/>
          <p:nvPr/>
        </p:nvSpPr>
        <p:spPr>
          <a:xfrm flipV="1">
            <a:off x="6335640" y="709560"/>
            <a:ext cx="136440" cy="31680"/>
          </a:xfrm>
          <a:prstGeom prst="line">
            <a:avLst/>
          </a:prstGeom>
          <a:ln w="9360">
            <a:solidFill>
              <a:srgbClr val="60a8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Line 15"/>
          <p:cNvSpPr/>
          <p:nvPr/>
        </p:nvSpPr>
        <p:spPr>
          <a:xfrm flipV="1">
            <a:off x="6777000" y="628560"/>
            <a:ext cx="136440" cy="131760"/>
          </a:xfrm>
          <a:prstGeom prst="line">
            <a:avLst/>
          </a:prstGeom>
          <a:ln w="9360">
            <a:solidFill>
              <a:srgbClr val="60a8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Line 16"/>
          <p:cNvSpPr/>
          <p:nvPr/>
        </p:nvSpPr>
        <p:spPr>
          <a:xfrm flipV="1">
            <a:off x="6675480" y="442440"/>
            <a:ext cx="79200" cy="65160"/>
          </a:xfrm>
          <a:prstGeom prst="line">
            <a:avLst/>
          </a:prstGeom>
          <a:ln w="9360">
            <a:solidFill>
              <a:srgbClr val="60a8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Line 17"/>
          <p:cNvSpPr/>
          <p:nvPr/>
        </p:nvSpPr>
        <p:spPr>
          <a:xfrm>
            <a:off x="6805440" y="816120"/>
            <a:ext cx="79560" cy="17280"/>
          </a:xfrm>
          <a:prstGeom prst="line">
            <a:avLst/>
          </a:prstGeom>
          <a:ln w="9360">
            <a:solidFill>
              <a:srgbClr val="60a8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Line 18"/>
          <p:cNvSpPr/>
          <p:nvPr/>
        </p:nvSpPr>
        <p:spPr>
          <a:xfrm>
            <a:off x="6602400" y="728640"/>
            <a:ext cx="68400" cy="44640"/>
          </a:xfrm>
          <a:prstGeom prst="line">
            <a:avLst/>
          </a:prstGeom>
          <a:ln w="9360">
            <a:solidFill>
              <a:srgbClr val="60a8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AutoShape 19"/>
          <p:cNvSpPr/>
          <p:nvPr/>
        </p:nvSpPr>
        <p:spPr>
          <a:xfrm>
            <a:off x="371520" y="352440"/>
            <a:ext cx="4056120" cy="385920"/>
          </a:xfrm>
          <a:prstGeom prst="roundRect">
            <a:avLst>
              <a:gd name="adj" fmla="val 4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12400"/>
                <a:tab algn="l" pos="1083456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Swedish Institute of Computer Sci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377640" y="2271240"/>
            <a:ext cx="6802200" cy="705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AutoShape 21"/>
          <p:cNvSpPr/>
          <p:nvPr/>
        </p:nvSpPr>
        <p:spPr>
          <a:xfrm>
            <a:off x="366840" y="681120"/>
            <a:ext cx="2038320" cy="285840"/>
          </a:xfrm>
          <a:prstGeom prst="roundRect">
            <a:avLst>
              <a:gd name="adj" fmla="val 55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12400"/>
                <a:tab algn="l" pos="1083456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http://www.sics.se/n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Oval 22"/>
          <p:cNvSpPr/>
          <p:nvPr/>
        </p:nvSpPr>
        <p:spPr>
          <a:xfrm>
            <a:off x="6485040" y="646200"/>
            <a:ext cx="98280" cy="104760"/>
          </a:xfrm>
          <a:prstGeom prst="ellipse">
            <a:avLst/>
          </a:prstGeom>
          <a:solidFill>
            <a:srgbClr val="cb2d2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4"/>
          <p:cNvSpPr/>
          <p:nvPr/>
        </p:nvSpPr>
        <p:spPr>
          <a:xfrm>
            <a:off x="514440" y="940680"/>
            <a:ext cx="64260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12400"/>
                <a:tab algn="l" pos="10834560"/>
              </a:tabLst>
            </a:pPr>
            <a:r>
              <a:rPr b="1" lang="en-GB" sz="3300" spc="-1" strike="noStrike">
                <a:solidFill>
                  <a:srgbClr val="367c9a"/>
                </a:solidFill>
                <a:latin typeface="Tahoma"/>
              </a:rPr>
              <a:t>Software-based Sensor Node Energy Estimatio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" name="Group 81"/>
          <p:cNvGrpSpPr/>
          <p:nvPr/>
        </p:nvGrpSpPr>
        <p:grpSpPr>
          <a:xfrm>
            <a:off x="12600" y="2017800"/>
            <a:ext cx="7593120" cy="634680"/>
            <a:chOff x="12600" y="2017800"/>
            <a:chExt cx="7593120" cy="634680"/>
          </a:xfrm>
        </p:grpSpPr>
        <p:sp>
          <p:nvSpPr>
            <p:cNvPr id="61" name="TextBox 41"/>
            <p:cNvSpPr/>
            <p:nvPr/>
          </p:nvSpPr>
          <p:spPr>
            <a:xfrm>
              <a:off x="12600" y="2017800"/>
              <a:ext cx="7560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am Dunkels, Fredrik Österlind, Nicolas Tsiftes, Zhitao 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TextBox 42"/>
            <p:cNvSpPr/>
            <p:nvPr/>
          </p:nvSpPr>
          <p:spPr>
            <a:xfrm>
              <a:off x="45000" y="2298240"/>
              <a:ext cx="756072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edish Institute of Computer Scien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63" name=""/>
          <p:cNvGraphicFramePr/>
          <p:nvPr/>
        </p:nvGraphicFramePr>
        <p:xfrm>
          <a:off x="550800" y="2654280"/>
          <a:ext cx="6637320" cy="6134040"/>
        </p:xfrm>
        <a:graphic>
          <a:graphicData uri="http://schemas.openxmlformats.org/drawingml/2006/table">
            <a:tbl>
              <a:tblPr/>
              <a:tblGrid>
                <a:gridCol w="2113200"/>
                <a:gridCol w="4524120"/>
              </a:tblGrid>
              <a:tr h="71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D St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ue, Green, R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ergy mo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71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 off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pt for transmiss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U Low power mode enabl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1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 duty-cycle 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U Low power mode enabl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1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 duty-cycle 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U Low power mode enabl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1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 on 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U Low power mode enabl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1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 duty-cycle 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power mode disabl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 off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pt for transmiss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U Low power mode enabl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tting 1.2 kbyte/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 off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pt for transmiss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U Low power mode enabled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tting 12 kbyte/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pSp>
        <p:nvGrpSpPr>
          <p:cNvPr id="64" name="Group 49"/>
          <p:cNvGrpSpPr/>
          <p:nvPr/>
        </p:nvGrpSpPr>
        <p:grpSpPr>
          <a:xfrm>
            <a:off x="855720" y="3551400"/>
            <a:ext cx="1434960" cy="358560"/>
            <a:chOff x="855720" y="3551400"/>
            <a:chExt cx="1434960" cy="358560"/>
          </a:xfrm>
        </p:grpSpPr>
        <p:sp>
          <p:nvSpPr>
            <p:cNvPr id="65" name="Rectangle 50"/>
            <p:cNvSpPr/>
            <p:nvPr/>
          </p:nvSpPr>
          <p:spPr>
            <a:xfrm>
              <a:off x="1932120" y="3551400"/>
              <a:ext cx="358560" cy="358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51"/>
            <p:cNvSpPr/>
            <p:nvPr/>
          </p:nvSpPr>
          <p:spPr>
            <a:xfrm>
              <a:off x="1393920" y="3551400"/>
              <a:ext cx="358560" cy="35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52"/>
            <p:cNvSpPr/>
            <p:nvPr/>
          </p:nvSpPr>
          <p:spPr>
            <a:xfrm>
              <a:off x="855720" y="3551400"/>
              <a:ext cx="358560" cy="35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" name="Group 53"/>
          <p:cNvGrpSpPr/>
          <p:nvPr/>
        </p:nvGrpSpPr>
        <p:grpSpPr>
          <a:xfrm>
            <a:off x="855720" y="4268880"/>
            <a:ext cx="1434960" cy="358560"/>
            <a:chOff x="855720" y="4268880"/>
            <a:chExt cx="1434960" cy="358560"/>
          </a:xfrm>
        </p:grpSpPr>
        <p:sp>
          <p:nvSpPr>
            <p:cNvPr id="69" name="Rectangle 54"/>
            <p:cNvSpPr/>
            <p:nvPr/>
          </p:nvSpPr>
          <p:spPr>
            <a:xfrm>
              <a:off x="1932120" y="4268880"/>
              <a:ext cx="358560" cy="35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55"/>
            <p:cNvSpPr/>
            <p:nvPr/>
          </p:nvSpPr>
          <p:spPr>
            <a:xfrm>
              <a:off x="1393920" y="4268880"/>
              <a:ext cx="358560" cy="3585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56"/>
            <p:cNvSpPr/>
            <p:nvPr/>
          </p:nvSpPr>
          <p:spPr>
            <a:xfrm>
              <a:off x="855720" y="4268880"/>
              <a:ext cx="358560" cy="35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Group 57"/>
          <p:cNvGrpSpPr/>
          <p:nvPr/>
        </p:nvGrpSpPr>
        <p:grpSpPr>
          <a:xfrm>
            <a:off x="855720" y="4986360"/>
            <a:ext cx="1434960" cy="358920"/>
            <a:chOff x="855720" y="4986360"/>
            <a:chExt cx="1434960" cy="358920"/>
          </a:xfrm>
        </p:grpSpPr>
        <p:sp>
          <p:nvSpPr>
            <p:cNvPr id="73" name="Rectangle 58"/>
            <p:cNvSpPr/>
            <p:nvPr/>
          </p:nvSpPr>
          <p:spPr>
            <a:xfrm>
              <a:off x="1932120" y="4986360"/>
              <a:ext cx="358560" cy="358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59"/>
            <p:cNvSpPr/>
            <p:nvPr/>
          </p:nvSpPr>
          <p:spPr>
            <a:xfrm>
              <a:off x="1393920" y="4986360"/>
              <a:ext cx="358560" cy="3589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60"/>
            <p:cNvSpPr/>
            <p:nvPr/>
          </p:nvSpPr>
          <p:spPr>
            <a:xfrm>
              <a:off x="855720" y="4986360"/>
              <a:ext cx="358560" cy="35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" name="Group 61"/>
          <p:cNvGrpSpPr/>
          <p:nvPr/>
        </p:nvGrpSpPr>
        <p:grpSpPr>
          <a:xfrm>
            <a:off x="855720" y="5703840"/>
            <a:ext cx="1434960" cy="358920"/>
            <a:chOff x="855720" y="5703840"/>
            <a:chExt cx="1434960" cy="358920"/>
          </a:xfrm>
        </p:grpSpPr>
        <p:sp>
          <p:nvSpPr>
            <p:cNvPr id="77" name="Rectangle 62"/>
            <p:cNvSpPr/>
            <p:nvPr/>
          </p:nvSpPr>
          <p:spPr>
            <a:xfrm>
              <a:off x="1932120" y="5703840"/>
              <a:ext cx="358560" cy="35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63"/>
            <p:cNvSpPr/>
            <p:nvPr/>
          </p:nvSpPr>
          <p:spPr>
            <a:xfrm>
              <a:off x="1393920" y="5703840"/>
              <a:ext cx="358560" cy="35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64"/>
            <p:cNvSpPr/>
            <p:nvPr/>
          </p:nvSpPr>
          <p:spPr>
            <a:xfrm>
              <a:off x="855720" y="5703840"/>
              <a:ext cx="358560" cy="358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" name="Group 65"/>
          <p:cNvGrpSpPr/>
          <p:nvPr/>
        </p:nvGrpSpPr>
        <p:grpSpPr>
          <a:xfrm>
            <a:off x="855720" y="6421320"/>
            <a:ext cx="1434960" cy="358920"/>
            <a:chOff x="855720" y="6421320"/>
            <a:chExt cx="1434960" cy="358920"/>
          </a:xfrm>
        </p:grpSpPr>
        <p:sp>
          <p:nvSpPr>
            <p:cNvPr id="81" name="Rectangle 66"/>
            <p:cNvSpPr/>
            <p:nvPr/>
          </p:nvSpPr>
          <p:spPr>
            <a:xfrm>
              <a:off x="1932120" y="6421320"/>
              <a:ext cx="358560" cy="358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67"/>
            <p:cNvSpPr/>
            <p:nvPr/>
          </p:nvSpPr>
          <p:spPr>
            <a:xfrm>
              <a:off x="1393920" y="6421320"/>
              <a:ext cx="358560" cy="35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68"/>
            <p:cNvSpPr/>
            <p:nvPr/>
          </p:nvSpPr>
          <p:spPr>
            <a:xfrm>
              <a:off x="855720" y="6421320"/>
              <a:ext cx="358560" cy="358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" name="Group 69"/>
          <p:cNvGrpSpPr/>
          <p:nvPr/>
        </p:nvGrpSpPr>
        <p:grpSpPr>
          <a:xfrm>
            <a:off x="855720" y="7139160"/>
            <a:ext cx="1434960" cy="358560"/>
            <a:chOff x="855720" y="7139160"/>
            <a:chExt cx="1434960" cy="358560"/>
          </a:xfrm>
        </p:grpSpPr>
        <p:sp>
          <p:nvSpPr>
            <p:cNvPr id="85" name="Rectangle 70"/>
            <p:cNvSpPr/>
            <p:nvPr/>
          </p:nvSpPr>
          <p:spPr>
            <a:xfrm>
              <a:off x="1932120" y="7139160"/>
              <a:ext cx="358560" cy="35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Rectangle 71"/>
            <p:cNvSpPr/>
            <p:nvPr/>
          </p:nvSpPr>
          <p:spPr>
            <a:xfrm>
              <a:off x="1393920" y="7139160"/>
              <a:ext cx="358560" cy="3585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Rectangle 72"/>
            <p:cNvSpPr/>
            <p:nvPr/>
          </p:nvSpPr>
          <p:spPr>
            <a:xfrm>
              <a:off x="855720" y="7139160"/>
              <a:ext cx="358560" cy="3585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" name="Group 69"/>
          <p:cNvGrpSpPr/>
          <p:nvPr/>
        </p:nvGrpSpPr>
        <p:grpSpPr>
          <a:xfrm>
            <a:off x="857160" y="8037360"/>
            <a:ext cx="1435320" cy="358920"/>
            <a:chOff x="857160" y="8037360"/>
            <a:chExt cx="1435320" cy="358920"/>
          </a:xfrm>
        </p:grpSpPr>
        <p:sp>
          <p:nvSpPr>
            <p:cNvPr id="89" name="Rectangle 70"/>
            <p:cNvSpPr/>
            <p:nvPr/>
          </p:nvSpPr>
          <p:spPr>
            <a:xfrm>
              <a:off x="1933560" y="8037360"/>
              <a:ext cx="358920" cy="358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Rectangle 71"/>
            <p:cNvSpPr/>
            <p:nvPr/>
          </p:nvSpPr>
          <p:spPr>
            <a:xfrm>
              <a:off x="1395360" y="8037360"/>
              <a:ext cx="358560" cy="3589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Rectangle 72"/>
            <p:cNvSpPr/>
            <p:nvPr/>
          </p:nvSpPr>
          <p:spPr>
            <a:xfrm>
              <a:off x="857160" y="8037360"/>
              <a:ext cx="358560" cy="358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TextBox 41"/>
          <p:cNvSpPr/>
          <p:nvPr/>
        </p:nvSpPr>
        <p:spPr>
          <a:xfrm>
            <a:off x="550800" y="8934480"/>
            <a:ext cx="591984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oad Contiki and demonstration source cod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www.sics.se/conti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edrik</cp:lastModifiedBy>
  <dcterms:modified xsi:type="dcterms:W3CDTF">2007-11-01T16:50:59Z</dcterms:modified>
  <cp:revision>92</cp:revision>
  <dc:subject/>
  <dc:title>The µIP TCP/IP Stack</dc:title>
</cp:coreProperties>
</file>